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46B-6BA8-4C42-84D3-0B96842E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555-88DC-4E88-90DB-AB2F10B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C9D-4FA7-438E-BDED-B9CE72E6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134-2682-409D-B7E6-20D26BD3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687-7E8B-4D0E-9660-7E55536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FBA-DCD9-494F-B6D3-741DE18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E52-ED3A-4D2A-948D-FE76AA5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F9F-A5DD-4D36-AB7E-260E8E3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8E0-7DDC-4A64-B565-BAC44EB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2B-119B-4DE8-BE60-32952C2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CBA-F708-405F-B2D0-A2DEC87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DC3-AE69-42CC-BB70-FAD3164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2D7D-BBD8-4477-BF6F-45C70327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rate’s 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ory and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rate’s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ce s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pace suit"/>
          <p:cNvPicPr/>
          <p:nvPr/>
        </p:nvPicPr>
        <p:blipFill>
          <a:blip r:embed="rId1"/>
          <a:stretch/>
        </p:blipFill>
        <p:spPr>
          <a:xfrm>
            <a:off x="4267080" y="-76320"/>
            <a:ext cx="4648320" cy="69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rate"/>
          <p:cNvPicPr/>
          <p:nvPr/>
        </p:nvPicPr>
        <p:blipFill>
          <a:blip r:embed="rId1"/>
          <a:stretch/>
        </p:blipFill>
        <p:spPr>
          <a:xfrm>
            <a:off x="32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380952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to use in a mythical 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keep away the Pi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gua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5791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Forgive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You were prob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using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scare away the igu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 user, andedam. "Green iguana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andedam/3032620124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 user, capn madd matt. "Pirate Curse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60852569@N00/1406586595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via. "space suit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via/3283651188/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0:20Z</dcterms:created>
  <dc:creator>Lakeview</dc:creator>
  <dc:description/>
  <dc:language>en-US</dc:language>
  <cp:lastModifiedBy>cyndi.vander_ven</cp:lastModifiedBy>
  <dcterms:modified xsi:type="dcterms:W3CDTF">2009-04-17T13:18:37Z</dcterms:modified>
  <cp:revision>3</cp:revision>
  <dc:subject/>
  <dc:title>The poem</dc:title>
</cp:coreProperties>
</file>